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4AA-C50F-454E-B16A-FC91EE7A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6C39-E6EB-41BA-B15E-A54A158B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A241-CEC3-4492-9B87-A124F7D7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711-95A7-4A3B-88B0-4CBE0C86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363-CED2-48F9-AF01-9596346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2AD-0CC4-4147-93CB-54205FF3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A76-0570-40C4-8D8D-A6205E4E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E2A-0937-4B7E-8B72-868A445A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037-342E-4846-915A-C350BDF9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074B-34EF-4867-8598-055882E6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C92-65EA-48A3-A315-AFA6850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DD0-9AC2-47D8-838E-13862B8F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97A1-AEDE-4D0B-B2D0-DFB711E86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be0e3"/>
                </a:solidFill>
                <a:latin typeface="Arial Narrow"/>
              </a:rPr>
              <a:t>Memorial Acclam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this bread and this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do as our Saviour comma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elebrate the redem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 has won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has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is ri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 will come aga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34:20Z</dcterms:created>
  <dc:creator>Anon Anon</dc:creator>
  <dc:description/>
  <dc:language>en-US</dc:language>
  <cp:lastModifiedBy>Anon Anon</cp:lastModifiedBy>
  <dcterms:modified xsi:type="dcterms:W3CDTF">2005-08-09T05:10:19Z</dcterms:modified>
  <cp:revision>8</cp:revision>
  <dc:subject/>
  <dc:title>PowerPoint Presentation</dc:title>
</cp:coreProperties>
</file>